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A152-961A-4674-9190-658D69DE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3B49-0CC1-46EF-B644-87CE97C4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0F0C-6C02-4E5F-8312-FB4476BF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349C-D720-49EF-A100-6D64BB38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9C9C-1407-492F-B584-1EFE50A0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A5A2-DFA3-42AE-BD09-0FEA8616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7013-3432-497B-A959-0AC6F2A2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1331-54A6-495C-A02A-491EB7B8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DA8C-5550-4041-8A57-C59B73B0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6318-E312-4BB5-BDBD-BF275631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DF0F-B304-420C-9C9F-A3B6BBBA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8FA7-8D2E-4EBD-94F6-49AE7A81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BBB7-3608-46AF-B8B0-4B99D122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5350-8BDD-4EAB-8849-3BEF0A9B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4B23-6626-46DA-AECA-4E6631C4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F594-1F18-4A2E-99EB-5D1FD87E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B634-67B3-4717-8C93-41A31C10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17C-87C7-4C1C-AD2E-0857355F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46FC-F016-417B-8D45-EC3C73A5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3B7-352E-45C2-9752-C5FFE920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04E-ADCD-43A2-8501-77CB2DCD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0C18-509A-44B6-9EE5-CA5BEE6D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214-D056-4460-81C4-93D6DEE8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570A-6F48-4DB5-B1B8-A8F4363D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4109-21D9-41F4-93A1-6B3A23027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3E8E-88DE-43BF-993C-676E01076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4800" spc="-1" strike="noStrike">
                <a:solidFill>
                  <a:srgbClr val="660066"/>
                </a:solidFill>
                <a:latin typeface="Georgia"/>
              </a:rPr>
              <a:t>ЦВЕТОК ДОЖДЕЙ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10920" y="3860640"/>
            <a:ext cx="64803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Работу выполнила    ученица 1 «Г»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МБОУ «Прогимназия» г. Сургу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Лаврухина Викто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Консультант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haron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учител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haroni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1 категор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haron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Попова Елена Алекс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МБОУ «Прогимназия» г. Сург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haroni"/>
              </a:rPr>
              <a:t>2012-201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сканирование0017"/>
          <p:cNvPicPr/>
          <p:nvPr/>
        </p:nvPicPr>
        <p:blipFill>
          <a:blip r:embed="rId1"/>
          <a:stretch/>
        </p:blipFill>
        <p:spPr>
          <a:xfrm>
            <a:off x="468360" y="2349360"/>
            <a:ext cx="3414600" cy="3672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Хронология опыта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3927600" cy="19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ыт начал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октября 2007 год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чи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феврал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08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1234 (3)"/>
          <p:cNvPicPr/>
          <p:nvPr/>
        </p:nvPicPr>
        <p:blipFill>
          <a:blip r:embed="rId1"/>
          <a:stretch/>
        </p:blipFill>
        <p:spPr>
          <a:xfrm>
            <a:off x="4788000" y="1484280"/>
            <a:ext cx="4002120" cy="2876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результат"/>
          <p:cNvPicPr/>
          <p:nvPr/>
        </p:nvPicPr>
        <p:blipFill>
          <a:blip r:embed="rId2"/>
          <a:stretch/>
        </p:blipFill>
        <p:spPr>
          <a:xfrm>
            <a:off x="539640" y="3357720"/>
            <a:ext cx="3961080" cy="3190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Результат опыта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4" name="Picture 17" descr="результат"/>
          <p:cNvPicPr/>
          <p:nvPr/>
        </p:nvPicPr>
        <p:blipFill>
          <a:blip r:embed="rId1"/>
          <a:stretch/>
        </p:blipFill>
        <p:spPr>
          <a:xfrm>
            <a:off x="1979640" y="1628640"/>
            <a:ext cx="5726160" cy="4611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екоторые советы четвероклассников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1413720"/>
            <a:ext cx="7993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Georgi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ыбирая луковицу, остановитесь на крупной, тяжёлой. Из такой луковицы вы получите сильные ростки и бутон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Georgi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Georgi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местите луковицу в горшок, диаметр которого на 2-3 см больше луковицы. На дно горшка насыпьте мелкий гравий для дренажа   (чтобы вода легче проходила, не застаивалась) и небольшой слой грунт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Georgi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Georgi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Луковицу поместите на этот слой грунта и подсыпьте землю, немного уплотняя её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Georgi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Georgi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Гиацинт необходимо полить, но не обильно. У правильно посаженной луковицы верхушка должна выглядывать из земл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Georgi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Georgi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братите внимание и на то, что от края горшка до земли должно оставаться не менее 1 см, чтобы растение было удобно поливать. Гиацинт не любит прямых солнечных лучей, сквозняко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Georgi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buClr>
                <a:srgbClr val="000000"/>
              </a:buClr>
              <a:buFont typeface="Georgia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Чтобы «цветок дождей» вырос прямым и ровным, горшок надо периодически поворачивать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strips dir="r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ЭТО ИНТЕРЕСНО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484280"/>
            <a:ext cx="8007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иацин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yacinthu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цветок дожд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мей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лилей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оди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Малая Аз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около 3000 сортов, используют 2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дикорастущее, выгоноч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ме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35-40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вет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март – начало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первые 10 дней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80 с северной стороны, в последующие дни +20-250, тёплое светлое поме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не любит прямых солнечных лучей, сквозня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и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зимой умеренный1раз в неделю. (лёгкое подсушивание земляного кома между полива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редит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клещи, оранжерейная тля, медве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мно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луковицами-детками, препарирован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Вывод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074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 создании необходимых условий можно вызвать цветение гиацинта к определённому сроку даже зимой, после длительного хранения лукови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ериод покоя луковиц гиацинтов очень важен для нормального развития и обильного цвет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анализировав срок посадки и цветения гиацинта, мы сделали вывод: чтобы получить цветущий гиацинт к 8марта, луковицу нужно высаживать за два месяца до необходимой даты, в первых числах янва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истематизировали сведения о гиаци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вой вывод постараемся подтвердить в  следующем 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468360" y="81072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Список литерату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Г.К. Головкин « Рассказы о растениях- переселенцах» Ленинград ВО    Агропромиздат Ленинградское отделение, 1989 год- №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Г.К. Тавлинова « Приусадебное хозяйство» Санкт-Петербург  Диамант 1996 год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Г.К. Тавлинова « Цветы в комнате и на балконе». Ленинград. Колос.1982 год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Д. Князева, Т. Князева « Новейшая   энциклопедия»  «Комнатные растения». Олма  Москва 2007 год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Приусадебное хозяйство. Сентябрь 2007 год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Приусадебное хозяйство. Декабрь 2007 год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Приусадебное хозяйство. Февраль 2007 год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91520" cy="28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ЦЕЛЬ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расширить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знания о комнатных растениях; изучить  биологические, морфологические особенности гиацинта; познакомиться с особенностями выращивания гиацинтов.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3519360"/>
            <a:ext cx="8352000" cy="30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: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ырастить гиацинт в комнатных условиях. научиться работать со справочной литературой, наблюдать за развитием растения и вести дневник наблюдения; отработать навыки по уходу за комнатными растениями.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Исторические сведения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9360" y="1628640"/>
            <a:ext cx="8594640" cy="13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Гиацин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 переводе с древнегреческого значит «цветок дождей», он очень любит влагу и растёт  в близи рек и озёр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сканирование0003"/>
          <p:cNvPicPr/>
          <p:nvPr/>
        </p:nvPicPr>
        <p:blipFill>
          <a:blip r:embed="rId1"/>
          <a:stretch/>
        </p:blipFill>
        <p:spPr>
          <a:xfrm>
            <a:off x="971640" y="3213000"/>
            <a:ext cx="2270160" cy="3265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сканирование0002"/>
          <p:cNvPicPr/>
          <p:nvPr/>
        </p:nvPicPr>
        <p:blipFill>
          <a:blip r:embed="rId2"/>
          <a:stretch/>
        </p:blipFill>
        <p:spPr>
          <a:xfrm>
            <a:off x="6384960" y="2492280"/>
            <a:ext cx="2324160" cy="331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сканирование0014"/>
          <p:cNvPicPr/>
          <p:nvPr/>
        </p:nvPicPr>
        <p:blipFill>
          <a:blip r:embed="rId3"/>
          <a:stretch/>
        </p:blipFill>
        <p:spPr>
          <a:xfrm>
            <a:off x="3564000" y="2852640"/>
            <a:ext cx="2619360" cy="3135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123 (1)"/>
          <p:cNvPicPr/>
          <p:nvPr/>
        </p:nvPicPr>
        <p:blipFill>
          <a:blip r:embed="rId1"/>
          <a:stretch/>
        </p:blipFill>
        <p:spPr>
          <a:xfrm>
            <a:off x="6732720" y="4437000"/>
            <a:ext cx="2070000" cy="2089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785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Характеристика луковичных растений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964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ародыш семени с одной семядо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апасные питательные вещества находятся в эндоспе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Листья обычно имеют параллельное жилк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Черешок листа слабо выражен, но часто представлено листовое влагалищ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водящая система в стебле состоит из многих отдельных пучков. Кольца и роста стебля в толщину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ародышевый корешок рано отмирает и у семени при прорастании обычно отходит сразу несколько придаточных корней, образующих мочковатую корневую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ычно травы, редко древесной фор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ветки обычно трёхчленные, иногда двучленные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облемы самостоятельных исследований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7774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рфологические и биологические особенности гиаци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хнология размн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езонный рост и развитие гиаци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готовка поч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ход и подкорм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редители и боле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орфологические и биологические особенности гиацинта.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333864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Технология размножения.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10" descr="сканирование0018"/>
          <p:cNvPicPr/>
          <p:nvPr/>
        </p:nvPicPr>
        <p:blipFill>
          <a:blip r:embed="rId1"/>
          <a:stretch/>
        </p:blipFill>
        <p:spPr>
          <a:xfrm>
            <a:off x="395280" y="1484280"/>
            <a:ext cx="4680000" cy="1604880"/>
          </a:xfrm>
          <a:prstGeom prst="rect">
            <a:avLst/>
          </a:prstGeom>
          <a:ln w="54000">
            <a:solidFill>
              <a:srgbClr val="ff0000"/>
            </a:solidFill>
            <a:miter/>
          </a:ln>
        </p:spPr>
      </p:pic>
      <p:pic>
        <p:nvPicPr>
          <p:cNvPr id="117" name="Picture 12" descr="сканирование0019"/>
          <p:cNvPicPr/>
          <p:nvPr/>
        </p:nvPicPr>
        <p:blipFill>
          <a:blip r:embed="rId2"/>
          <a:stretch/>
        </p:blipFill>
        <p:spPr>
          <a:xfrm>
            <a:off x="3851280" y="2565360"/>
            <a:ext cx="4991040" cy="1774800"/>
          </a:xfrm>
          <a:prstGeom prst="rect">
            <a:avLst/>
          </a:prstGeom>
          <a:ln w="54000">
            <a:solidFill>
              <a:srgbClr val="3366ff"/>
            </a:solidFill>
            <a:miter/>
          </a:ln>
        </p:spPr>
      </p:pic>
      <p:pic>
        <p:nvPicPr>
          <p:cNvPr id="118" name="Picture 13" descr="сканирование0020"/>
          <p:cNvPicPr/>
          <p:nvPr/>
        </p:nvPicPr>
        <p:blipFill>
          <a:blip r:embed="rId3"/>
          <a:stretch/>
        </p:blipFill>
        <p:spPr>
          <a:xfrm>
            <a:off x="468360" y="4076640"/>
            <a:ext cx="4572000" cy="1595520"/>
          </a:xfrm>
          <a:prstGeom prst="rect">
            <a:avLst/>
          </a:prstGeom>
          <a:ln w="54000">
            <a:solidFill>
              <a:srgbClr val="339966"/>
            </a:solidFill>
            <a:miter/>
          </a:ln>
        </p:spPr>
      </p:pic>
      <p:pic>
        <p:nvPicPr>
          <p:cNvPr id="119" name="Picture 14" descr="сканирование0021"/>
          <p:cNvPicPr/>
          <p:nvPr/>
        </p:nvPicPr>
        <p:blipFill>
          <a:blip r:embed="rId4"/>
          <a:stretch/>
        </p:blipFill>
        <p:spPr>
          <a:xfrm>
            <a:off x="4067280" y="5229360"/>
            <a:ext cx="4751280" cy="1431720"/>
          </a:xfrm>
          <a:prstGeom prst="rect">
            <a:avLst/>
          </a:prstGeom>
          <a:ln w="54000">
            <a:solidFill>
              <a:srgbClr val="ff00ff"/>
            </a:solidFill>
            <a:miter/>
          </a:ln>
        </p:spPr>
      </p:pic>
    </p:spTree>
  </p:cSld>
  <p:transition spd="med">
    <p:strips dir="r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Классификация гиацинтов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755640" y="1916280"/>
            <a:ext cx="18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н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ертруда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сперанс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исмарк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ран Бланш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3564000" y="2088360"/>
            <a:ext cx="216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реднеранние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нелик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адам Софии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нносанс,                                   Доктор Либер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372360" y="3340080"/>
            <a:ext cx="237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зд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Гиндербург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еи.                                                                                                                                                                             Скарлит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айт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иктория,                                                                                        Перл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4" name="Picture 10" descr="сканирование0004"/>
          <p:cNvPicPr/>
          <p:nvPr/>
        </p:nvPicPr>
        <p:blipFill>
          <a:blip r:embed="rId1"/>
          <a:stretch/>
        </p:blipFill>
        <p:spPr>
          <a:xfrm>
            <a:off x="324000" y="4581360"/>
            <a:ext cx="4032000" cy="2057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сканирование0001"/>
          <p:cNvPicPr/>
          <p:nvPr/>
        </p:nvPicPr>
        <p:blipFill>
          <a:blip r:embed="rId2"/>
          <a:stretch/>
        </p:blipFill>
        <p:spPr>
          <a:xfrm>
            <a:off x="6948360" y="1844640"/>
            <a:ext cx="160020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,-86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Уход и подкормка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76360" y="1484280"/>
            <a:ext cx="55688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 время вегетации проводят три подкормки минеральными удобрениями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рвую при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явлении всходов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 В это время у гиацинтов идёт интенсивный рост всей надземной части растения и поэтому особенно необходимы азотные удобрения. Вносят аммиачную или калийную селитру (20 г/кв.м)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торую подкормку проводят после появления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утонов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В бороздки между рядами гиацинтов вносят аммиачную селитру и калийную соль (20 г/кв.м), суперфосфат ( 40 г/кв.м)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сле цветения третью подкормку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смесью калийной соли ( 20г/кв.м) и суперфосфата (15 г /кв.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сканирование0015"/>
          <p:cNvPicPr/>
          <p:nvPr/>
        </p:nvPicPr>
        <p:blipFill>
          <a:blip r:embed="rId1"/>
          <a:stretch/>
        </p:blipFill>
        <p:spPr>
          <a:xfrm>
            <a:off x="395280" y="1557360"/>
            <a:ext cx="2594160" cy="5038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2:35:13Z</dcterms:created>
  <dc:creator>User</dc:creator>
  <dc:description/>
  <dc:language>en-US</dc:language>
  <cp:lastModifiedBy>Boris</cp:lastModifiedBy>
  <dcterms:modified xsi:type="dcterms:W3CDTF">2013-02-07T16:02:21Z</dcterms:modified>
  <cp:revision>15</cp:revision>
  <dc:subject/>
  <dc:title>          ЦВЕТОК ДОЖДЕЙ</dc:title>
</cp:coreProperties>
</file>